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EE3E-20BB-4102-876E-7333FD434D0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2238-EF4B-4E41-B529-238934357CC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4FEB-CD3F-40B8-8A3E-15200F27B6E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C536-3D23-4D35-9543-8082901B0FF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FEDC-4E4C-480E-BA2F-9120E010E71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E55F-707D-4A9A-A3D1-7649D04749C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B460-DDB9-4925-8DC4-3D80291CC35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9E4F-8966-48FD-9B80-87CBBA6FA6C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12B-8054-4E40-A16D-60BF108A323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444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BFA6-35A8-42D9-92A8-B4E5A923BE6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BB02-FFCD-4B37-A9AE-27F8BF21209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CFD3-82D7-4156-8885-52F9AB09D0F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BB25-641D-485C-98FF-3317B763548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59F6-8D5D-4D9C-A004-9CC00C96332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0DE4-3551-40BB-9F4C-CD4BE338056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DA28-4A6B-4DE8-84E8-062FD39C697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444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1AFA-C775-4ABC-8F31-13F04CCDA3E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4CEA-6F56-465E-8796-2F546069932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444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76F1-5290-4C6D-9355-C2B24740480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A913-209E-4CBB-AB9A-5E6325CBBAB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6D07-BEB4-4B9A-ABE0-EA405E374D9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28C5-AD06-4B58-B326-E4FAAA3C581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444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F74B-BB61-42B4-8A1F-8E818810CBC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C6E7-9DBE-4BDA-B297-6850F1C001E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81D4-41A8-43A9-8952-1021AC0E4F6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17BE-5D8F-4C06-93FF-627C41BC5A2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23AE-4FCF-4D70-9168-6A566AEC13A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7BC6-DD47-4D20-92D3-0C3EB62670C7}"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6E31-AF02-45C4-AFDD-7B83189E8E7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E246-9309-4EDA-A37E-CA3984C8E35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9086-31F5-4411-A780-270C959F679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A126-FB4D-4BCE-8048-E030382C228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8767-2E5E-4761-8FD0-02FADFE7A45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1038-280B-484C-AC0B-8FA9FCC3036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757D-4C74-46AB-948F-E22790156FD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8A30-73DC-44E8-AB3A-E258BC1E1DC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444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9E1A-5E17-4364-B36F-FF62364569A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AB72-4FB2-41D3-B98D-B74B71CF1AE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444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E7B8-7136-4394-BE3F-19126D93A99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54BA-8111-4A27-B356-156C5CC3C197}"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346D-9323-483C-9227-3D381D3D818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966FF-40E0-47B3-A018-DA266E640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6AF0-2B64-43B8-B583-E896259A7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E73F6-D604-415B-9228-0DAF06540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89417-30CD-4637-BA98-6E1D87406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264C-D698-473A-B603-75C12A2E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AF2C-A68B-4B0E-B098-8B8436AB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B995-16FB-4C8E-965A-19C85350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42FB-7538-4B39-9CC7-E746805FE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E13D9-9EC6-405C-B2A2-445A90DE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2E1D-B2A3-468C-BD84-E43E0289E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3BF8-ABE8-4526-A692-4689F2CA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67649-7FDA-471B-910C-96BE6F27D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A5F5-AB24-4DBA-A6EF-09415875089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8098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6762-348F-4ADE-8025-882E9A55A5F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АКУТНЕ ДЕНТОГЕНЕ ИНФЕК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788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en-US" sz="1400" spc="-1" strike="noStrike">
                <a:solidFill>
                  <a:srgbClr val="000000"/>
                </a:solidFill>
                <a:latin typeface="Palatino Linotype"/>
              </a:rPr>
              <a:t>6</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16 – 18</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en-US" sz="1400" spc="-1" strike="noStrike">
                <a:solidFill>
                  <a:srgbClr val="000000"/>
                </a:solidFill>
                <a:latin typeface="Palatino Linotype"/>
              </a:rPr>
              <a:t>	</a:t>
            </a:r>
            <a:r>
              <a:rPr b="1" lang="sr-CS" sz="1400" spc="-1" strike="noStrike">
                <a:solidFill>
                  <a:srgbClr val="000000"/>
                </a:solidFill>
                <a:latin typeface="Palatino Linotype"/>
              </a:rPr>
              <a:t>Појам дентогене инфекције, клиничка слика и дијагноза дентогених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инфекција,компликације дентогених инфекц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C307-EF30-48AE-9325-84D7167A7EC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0" name="TextBox 6"/>
          <p:cNvSpPr/>
          <p:nvPr/>
        </p:nvSpPr>
        <p:spPr>
          <a:xfrm>
            <a:off x="493560" y="1768320"/>
            <a:ext cx="814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Положај и морфологија коренова</a:t>
            </a:r>
            <a:r>
              <a:rPr b="0" lang="sr-CS" sz="2000" spc="-1" strike="noStrike">
                <a:solidFill>
                  <a:srgbClr val="000000"/>
                </a:solidFill>
                <a:latin typeface="Palatino Linotype"/>
              </a:rPr>
              <a:t>, такође одређују правац ширења, односно локализацију инфекције.</a:t>
            </a:r>
            <a:endParaRPr b="0" lang="en-US" sz="2000" spc="-1" strike="noStrike">
              <a:solidFill>
                <a:srgbClr val="000000"/>
              </a:solidFill>
              <a:latin typeface="Arial"/>
            </a:endParaRPr>
          </a:p>
        </p:txBody>
      </p:sp>
      <p:pic>
        <p:nvPicPr>
          <p:cNvPr id="111" name="Picture 7" descr="C:\Users\Zoran\Downloads\oralna hirurgija\slike\fgfffgfgfgf.jpg"/>
          <p:cNvPicPr/>
          <p:nvPr/>
        </p:nvPicPr>
        <p:blipFill>
          <a:blip r:embed="rId1"/>
          <a:srcRect l="2327" t="0" r="0" b="4501"/>
          <a:stretch/>
        </p:blipFill>
        <p:spPr>
          <a:xfrm>
            <a:off x="2971800" y="2670120"/>
            <a:ext cx="3330720" cy="312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B548-E32F-4FF5-9519-E8FAB4D0B24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6" name="TextBox 6"/>
          <p:cNvSpPr/>
          <p:nvPr/>
        </p:nvSpPr>
        <p:spPr>
          <a:xfrm>
            <a:off x="457200" y="1781280"/>
            <a:ext cx="812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Крвни и лимфни судови </a:t>
            </a:r>
            <a:r>
              <a:rPr b="0" lang="sr-CS" sz="2000" spc="-1" strike="noStrike">
                <a:solidFill>
                  <a:srgbClr val="000000"/>
                </a:solidFill>
                <a:latin typeface="Palatino Linotype"/>
              </a:rPr>
              <a:t>су углавном одговорни за ширење инфекција у удаљене пределе главе и вра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и неколико праваца којима се инфекција пропагира у околину и удаљене регије.</a:t>
            </a:r>
            <a:endParaRPr b="0" lang="en-US" sz="2000" spc="-1" strike="noStrike">
              <a:solidFill>
                <a:srgbClr val="000000"/>
              </a:solidFill>
              <a:latin typeface="Arial"/>
            </a:endParaRPr>
          </a:p>
        </p:txBody>
      </p:sp>
      <p:pic>
        <p:nvPicPr>
          <p:cNvPr id="117" name="Picture 7" descr="C:\Users\Zoran\Downloads\oralna hirurgija\slike\ve.bmp"/>
          <p:cNvPicPr/>
          <p:nvPr/>
        </p:nvPicPr>
        <p:blipFill>
          <a:blip r:embed="rId1"/>
          <a:stretch/>
        </p:blipFill>
        <p:spPr>
          <a:xfrm>
            <a:off x="1189080" y="3270240"/>
            <a:ext cx="2541600" cy="3024360"/>
          </a:xfrm>
          <a:prstGeom prst="rect">
            <a:avLst/>
          </a:prstGeom>
          <a:ln w="0">
            <a:noFill/>
          </a:ln>
        </p:spPr>
      </p:pic>
      <p:pic>
        <p:nvPicPr>
          <p:cNvPr id="118" name="Picture 8" descr="C:\Users\Zoran\Downloads\oralna hirurgija\slike\v.bmp"/>
          <p:cNvPicPr/>
          <p:nvPr/>
        </p:nvPicPr>
        <p:blipFill>
          <a:blip r:embed="rId2"/>
          <a:stretch/>
        </p:blipFill>
        <p:spPr>
          <a:xfrm>
            <a:off x="4051440" y="3290760"/>
            <a:ext cx="2912760" cy="295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7319-6FAF-4321-B5DF-963100231E4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69800" y="1359000"/>
            <a:ext cx="81565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ff0000"/>
                </a:solidFill>
                <a:uFillTx/>
                <a:latin typeface="Palatino Linotype"/>
              </a:rPr>
              <a:t>ТИПОВИ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могу да се јаве у два обл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псцес и Флегмо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Апсцес</a:t>
            </a:r>
            <a:r>
              <a:rPr b="0" lang="sr-CS" sz="2000" spc="-1" strike="noStrike">
                <a:solidFill>
                  <a:srgbClr val="000000"/>
                </a:solidFill>
                <a:latin typeface="Palatino Linotype"/>
              </a:rPr>
              <a:t> је честа форма дентогене инфекције. Представља одраз повољне одбрамбене реакције организма који настоји да локализује инфективно жари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је добро ограничено локално запаљење које од околног здравог ткива демаркира зона богата разноврсним ћелијским и хуморалним факторима одбране организм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7" descr="C:\Users\Zoran\Downloads\oralna hirurgija\slike\loadBinary.gif"/>
          <p:cNvPicPr/>
          <p:nvPr/>
        </p:nvPicPr>
        <p:blipFill>
          <a:blip r:embed="rId1"/>
          <a:srcRect l="40815" t="-1058" r="147" b="19552"/>
          <a:stretch/>
        </p:blipFill>
        <p:spPr>
          <a:xfrm>
            <a:off x="7351560" y="4595760"/>
            <a:ext cx="1625760" cy="1871640"/>
          </a:xfrm>
          <a:prstGeom prst="rect">
            <a:avLst/>
          </a:prstGeom>
          <a:ln w="0">
            <a:noFill/>
          </a:ln>
        </p:spPr>
      </p:pic>
      <p:pic>
        <p:nvPicPr>
          <p:cNvPr id="125" name="Picture 8" descr="C:\Users\Zoran\Downloads\oralna hirurgija\slike\download.jpg"/>
          <p:cNvPicPr/>
          <p:nvPr/>
        </p:nvPicPr>
        <p:blipFill>
          <a:blip r:embed="rId2"/>
          <a:srcRect l="36657" t="2563" r="7374" b="16114"/>
          <a:stretch/>
        </p:blipFill>
        <p:spPr>
          <a:xfrm>
            <a:off x="5943600" y="4813200"/>
            <a:ext cx="131112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7" name="Date Placeholder 3"/>
          <p:cNvSpPr/>
          <p:nvPr/>
        </p:nvSpPr>
        <p:spPr>
          <a:xfrm>
            <a:off x="0" y="6424560"/>
            <a:ext cx="3851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33D1-72FC-43AE-BBA9-85CD5A8F378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0" name="TextBox 6"/>
          <p:cNvSpPr/>
          <p:nvPr/>
        </p:nvSpPr>
        <p:spPr>
          <a:xfrm>
            <a:off x="444600" y="146844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Флегмона</a:t>
            </a:r>
            <a:r>
              <a:rPr b="0" i="1" lang="sr-CS" sz="2000" spc="-1" strike="noStrike">
                <a:solidFill>
                  <a:srgbClr val="000000"/>
                </a:solidFill>
                <a:latin typeface="Palatino Linotype"/>
              </a:rPr>
              <a:t>  </a:t>
            </a:r>
            <a:r>
              <a:rPr b="0" lang="sr-CS" sz="2000" spc="-1" strike="noStrike">
                <a:solidFill>
                  <a:srgbClr val="000000"/>
                </a:solidFill>
                <a:latin typeface="Palatino Linotype"/>
              </a:rPr>
              <a:t>настаје када је локални одговор организма слаб и ширење инфекције се несметано одвија у везивно и мишићно ткиво, </a:t>
            </a:r>
            <a:r>
              <a:rPr b="0" lang="sr-CS" sz="2000" spc="-1" strike="noStrike" u="sng">
                <a:solidFill>
                  <a:srgbClr val="000000"/>
                </a:solidFill>
                <a:uFillTx/>
                <a:latin typeface="Palatino Linotype"/>
              </a:rPr>
              <a:t>дифузно га прожимајући</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флегмоне је тежа, са брзим настанком и ширењем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локалних, флегмону карактерише и појава бурних општих симптома: повишена телесна температура, интоксикација и лоше опште стање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раница између здравог и инфламираног ткива је нејасна, а оток у оболелој регији је </a:t>
            </a:r>
            <a:r>
              <a:rPr b="0" lang="sr-CS" sz="2000" spc="-1" strike="noStrike" u="sng">
                <a:solidFill>
                  <a:srgbClr val="000000"/>
                </a:solidFill>
                <a:uFillTx/>
                <a:latin typeface="Palatino Linotype"/>
              </a:rPr>
              <a:t>чврст и дифузан</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жа изнад отока је црвена, сјајна и затегнута, топлија од окол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се флегмона развија код имунолошки компромитованих болесника: рековалесценција, слаба исхрана, исцрпљеност, физички напор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32"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90FE-6359-482C-A2AF-D0461BB14CB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5" name="TextBox 6"/>
          <p:cNvSpPr/>
          <p:nvPr/>
        </p:nvSpPr>
        <p:spPr>
          <a:xfrm>
            <a:off x="444600" y="1708200"/>
            <a:ext cx="8145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АЗЕ РАЗВОЈА ДЕНТОГЕНИХ АП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ИНТРАОСЕ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C:\Users\Zoran\Downloads\oralna hirurgija\slike\images 55.jpg"/>
          <p:cNvPicPr/>
          <p:nvPr/>
        </p:nvPicPr>
        <p:blipFill>
          <a:blip r:embed="rId1"/>
          <a:srcRect l="36054" t="0" r="0" b="518"/>
          <a:stretch/>
        </p:blipFill>
        <p:spPr>
          <a:xfrm>
            <a:off x="625320" y="3033720"/>
            <a:ext cx="2829240" cy="1863720"/>
          </a:xfrm>
          <a:prstGeom prst="rect">
            <a:avLst/>
          </a:prstGeom>
          <a:ln w="0">
            <a:noFill/>
          </a:ln>
        </p:spPr>
      </p:pic>
      <p:pic>
        <p:nvPicPr>
          <p:cNvPr id="137" name="Picture 8" descr="C:\Users\Zoran\Downloads\oralna hirurgija\slike\imagesCA3O6LEJ.jpg"/>
          <p:cNvPicPr/>
          <p:nvPr/>
        </p:nvPicPr>
        <p:blipFill>
          <a:blip r:embed="rId2"/>
          <a:srcRect l="2294" t="9087" r="61700" b="16914"/>
          <a:stretch/>
        </p:blipFill>
        <p:spPr>
          <a:xfrm>
            <a:off x="5319720" y="2995560"/>
            <a:ext cx="1986120" cy="1979640"/>
          </a:xfrm>
          <a:prstGeom prst="rect">
            <a:avLst/>
          </a:prstGeom>
          <a:ln w="0">
            <a:noFill/>
          </a:ln>
        </p:spPr>
      </p:pic>
      <p:sp>
        <p:nvSpPr>
          <p:cNvPr id="138" name="TextBox 9"/>
          <p:cNvSpPr/>
          <p:nvPr/>
        </p:nvSpPr>
        <p:spPr>
          <a:xfrm>
            <a:off x="601560" y="538956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ше се интезивним боловима, палпаторном и перкуторном  осетљивошћу зуба узрочн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40"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FE24-809A-47C2-8CD8-47636A9AE3F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6"/>
          <p:cNvSpPr/>
          <p:nvPr/>
        </p:nvSpPr>
        <p:spPr>
          <a:xfrm>
            <a:off x="457200" y="185256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ПЕРИОСТ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7" descr="C:\Users\Zoran\Downloads\oralna hirurgija\slike\download (17).jpg"/>
          <p:cNvPicPr/>
          <p:nvPr/>
        </p:nvPicPr>
        <p:blipFill>
          <a:blip r:embed="rId1"/>
          <a:stretch/>
        </p:blipFill>
        <p:spPr>
          <a:xfrm>
            <a:off x="5956200" y="1785960"/>
            <a:ext cx="2979720" cy="2484360"/>
          </a:xfrm>
          <a:prstGeom prst="rect">
            <a:avLst/>
          </a:prstGeom>
          <a:ln w="0">
            <a:noFill/>
          </a:ln>
        </p:spPr>
      </p:pic>
      <p:sp>
        <p:nvSpPr>
          <p:cNvPr id="145" name="TextBox 8"/>
          <p:cNvSpPr/>
          <p:nvPr/>
        </p:nvSpPr>
        <p:spPr>
          <a:xfrm>
            <a:off x="522360" y="2536920"/>
            <a:ext cx="52689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ови се појачавају, што је последица ригидности и богате инервације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слабо изражен, али палпаторно веома болан. Слузокожа у пределу зуба узрочника је црвена, чврста и напета.</a:t>
            </a:r>
            <a:endParaRPr b="0" lang="en-US" sz="2000" spc="-1" strike="noStrike">
              <a:solidFill>
                <a:srgbClr val="000000"/>
              </a:solidFill>
              <a:latin typeface="Arial"/>
            </a:endParaRPr>
          </a:p>
        </p:txBody>
      </p:sp>
      <p:sp>
        <p:nvSpPr>
          <p:cNvPr id="146" name="TextBox 9"/>
          <p:cNvSpPr/>
          <p:nvPr/>
        </p:nvSpPr>
        <p:spPr>
          <a:xfrm>
            <a:off x="579600" y="4624560"/>
            <a:ext cx="806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бе пре</a:t>
            </a:r>
            <a:r>
              <a:rPr b="0" lang="en-US" sz="2000" spc="-1" strike="noStrike">
                <a:solidFill>
                  <a:srgbClr val="000000"/>
                </a:solidFill>
                <a:latin typeface="Palatino Linotype"/>
              </a:rPr>
              <a:t>т</a:t>
            </a:r>
            <a:r>
              <a:rPr b="0" lang="sr-CS" sz="2000" spc="-1" strike="noStrike">
                <a:solidFill>
                  <a:srgbClr val="000000"/>
                </a:solidFill>
                <a:latin typeface="Palatino Linotype"/>
              </a:rPr>
              <a:t>ходне фазе, терапија апсцеса се заснива на вађењу зуба или дренажи кроз канал корена, уз евентуалну примену антибиот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02FA-142E-4CE1-8FD0-96DDE19A6D1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51" name="TextBox 6"/>
          <p:cNvSpPr/>
          <p:nvPr/>
        </p:nvSpPr>
        <p:spPr>
          <a:xfrm>
            <a:off x="480960" y="1647720"/>
            <a:ext cx="8169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МУКОЗНА / СУБКУТА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7" descr="C:\Users\Zoran\Downloads\oralna hirurgija\slike\12223.jpg"/>
          <p:cNvPicPr/>
          <p:nvPr/>
        </p:nvPicPr>
        <p:blipFill>
          <a:blip r:embed="rId1"/>
          <a:srcRect l="584" t="0" r="0" b="4619"/>
          <a:stretch/>
        </p:blipFill>
        <p:spPr>
          <a:xfrm>
            <a:off x="1155600" y="2340000"/>
            <a:ext cx="2508480" cy="2232000"/>
          </a:xfrm>
          <a:prstGeom prst="rect">
            <a:avLst/>
          </a:prstGeom>
          <a:ln w="0">
            <a:noFill/>
          </a:ln>
        </p:spPr>
      </p:pic>
      <p:pic>
        <p:nvPicPr>
          <p:cNvPr id="153" name="Picture 8" descr="C:\Users\Zoran\Downloads\oralna hirurgija\slike\imagesggg.jpg"/>
          <p:cNvPicPr/>
          <p:nvPr/>
        </p:nvPicPr>
        <p:blipFill>
          <a:blip r:embed="rId2"/>
          <a:stretch/>
        </p:blipFill>
        <p:spPr>
          <a:xfrm>
            <a:off x="5408640" y="2306520"/>
            <a:ext cx="2444760" cy="2411640"/>
          </a:xfrm>
          <a:prstGeom prst="rect">
            <a:avLst/>
          </a:prstGeom>
          <a:ln w="0">
            <a:noFill/>
          </a:ln>
        </p:spPr>
      </p:pic>
      <p:sp>
        <p:nvSpPr>
          <p:cNvPr id="154" name="TextBox 11"/>
          <p:cNvSpPr/>
          <p:nvPr/>
        </p:nvSpPr>
        <p:spPr>
          <a:xfrm>
            <a:off x="312840" y="4800600"/>
            <a:ext cx="867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њују се болови. Појава отока који је прекривен хиперемичном слузокожом и осетљив је на палпацију. Палпацијом се види феномен флуктуације</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CBB7-B5FC-40D9-B4BE-E0DB0262565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25520" y="122040"/>
            <a:ext cx="853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59" name="TextBox 8"/>
          <p:cNvSpPr/>
          <p:nvPr/>
        </p:nvSpPr>
        <p:spPr>
          <a:xfrm>
            <a:off x="444600" y="1563840"/>
            <a:ext cx="8170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е карактеришу изненадном појавом, са снажно израженим симптомима и брзим ток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ома често, међутим, акутна инфекција настаје егзарцебацијом хроничног про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акутних дентогених инфекција заснива се на анамнези и клиничком прегледу, односно клиничкој слици карактеристичној за овај тип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рисутни су знаци запаљења: </a:t>
            </a:r>
            <a:r>
              <a:rPr b="0" i="1" lang="en-US" sz="2000" spc="-1" strike="noStrike">
                <a:solidFill>
                  <a:srgbClr val="ff0000"/>
                </a:solidFill>
                <a:latin typeface="Palatino Linotype"/>
              </a:rPr>
              <a:t>rubor, tumor, calor, dolor et functio lae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 локални симптом који се јавља у клиничкој слици дентогених инфекција је </a:t>
            </a:r>
            <a:r>
              <a:rPr b="1" lang="sr-CS" sz="2000" spc="-1" strike="noStrike">
                <a:solidFill>
                  <a:srgbClr val="000000"/>
                </a:solidFill>
                <a:latin typeface="Palatino Linotype"/>
              </a:rPr>
              <a:t>тризмус</a:t>
            </a:r>
            <a:r>
              <a:rPr b="0" lang="sr-CS" sz="2000" spc="-1" strike="noStrike">
                <a:solidFill>
                  <a:srgbClr val="000000"/>
                </a:solidFill>
                <a:latin typeface="Palatino Linotype"/>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AB80-E27B-4C1F-8BFE-2F2E3D5D981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64" name="TextBox 6"/>
          <p:cNvSpPr/>
          <p:nvPr/>
        </p:nvSpPr>
        <p:spPr>
          <a:xfrm>
            <a:off x="1166760" y="194940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8"/>
          <p:cNvSpPr/>
          <p:nvPr/>
        </p:nvSpPr>
        <p:spPr>
          <a:xfrm>
            <a:off x="469800" y="152892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дентогених инфекција подразумева првенствено откривање зуба-узрочника, који је увек присутан, односно ако се  из анамнезе утврди да је узрочник недавно естрахиран, присутна је екстракциона р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у праћене и општим симптомима, као што су повишена телесна температура, дрхтавица, бледило коже, знаци дехидрадације (сувоћа видљиве слузокоже ), убрзано и неправилно дисање и промене у крви ( леукоцитоза, повишена седиментација, поремећај електроли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раженост општих симптома представља показатељ општег стања одбране организма и указује на потребу примене системских мера лечења.</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6ABA-50F7-45D2-81F6-E1209762C9A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0" name="TextBox 7"/>
          <p:cNvSpPr/>
          <p:nvPr/>
        </p:nvSpPr>
        <p:spPr>
          <a:xfrm>
            <a:off x="444600" y="1539720"/>
            <a:ext cx="8145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захваћени површни простори: сублингвални, субмандибуларни, субментални, букални, масетерични и простор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убоки простори: птеригомандибуларни и парафарингеал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ЛИНГВ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ограничен са горње стране слузокожом пода уста, медијално гениоглосним и гениохиоидним мишићем, а споља унутрашњом страном доње вилице. Доња граница је милохиоидни миши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зади, овај простор комуницира са субмандибуларним простором. ( сублингвална пљувачна жлезда, језични нерв и изводни канал субмандибуларне пљувачне жлезде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6473-A27D-4712-8527-968E9982A3A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5" name="TextBox 6"/>
          <p:cNvSpPr/>
          <p:nvPr/>
        </p:nvSpPr>
        <p:spPr>
          <a:xfrm>
            <a:off x="480960" y="1805040"/>
            <a:ext cx="8134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м инфекције подразумева успешан продор и размножавање микроорганизама у организму домаћина, при чему настају оштећена његових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е које воде порекло од обољења зуба називају се дентогеним или одонтогеним инфекција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брамбена реакција организма  на инвазију микроорганизама манифестује се као запаљење (</a:t>
            </a:r>
            <a:r>
              <a:rPr b="0" i="1" lang="en-US" sz="2000" spc="-1" strike="noStrike">
                <a:solidFill>
                  <a:srgbClr val="000000"/>
                </a:solidFill>
                <a:latin typeface="Palatino Linotype"/>
              </a:rPr>
              <a:t>inflamatio)</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Latn-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B394-F4F1-479F-8467-F9826510212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5" name="TextBox 7"/>
          <p:cNvSpPr/>
          <p:nvPr/>
        </p:nvSpPr>
        <p:spPr>
          <a:xfrm>
            <a:off x="457200" y="1865160"/>
            <a:ext cx="8253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овог простора је чешће неодонтогене природе, после повреде слузокоже пода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оток и црвенило слузокоже пода уста са једне стране, због чега је језик потиснут на здраву страну и нави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и општи знаци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а дијагноза треба да искључи цисте пода уста и туморе пода уст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је пре свега хируршко, уз антибиотску и симптоматску терапију.</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0" y="6399360"/>
            <a:ext cx="451656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CB4F-6537-4DAB-AAA9-1EFC919ECB4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0" name="TextBox 7"/>
          <p:cNvSpPr/>
          <p:nvPr/>
        </p:nvSpPr>
        <p:spPr>
          <a:xfrm>
            <a:off x="420840" y="1371600"/>
            <a:ext cx="8194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са унутрашње стране доње ивице тела мандибуле и испод ње. Унутрашњу границу чини хиоглосни мишић, предњу границу предњи трбух дигастрикуса, а задњу границу задњи трбух дигастрикуса и фасција великих крвних судова врата. Споља простор је ограничен платизмом и кожом, док га милохиоидни мишић одваја од сублингвалног простора. Садржај овог простора је истоимена пљувачна жлезда и лимфни чворови.</a:t>
            </a:r>
            <a:endParaRPr b="0" lang="en-US" sz="2000" spc="-1" strike="noStrike">
              <a:solidFill>
                <a:srgbClr val="000000"/>
              </a:solidFill>
              <a:latin typeface="Arial"/>
            </a:endParaRPr>
          </a:p>
        </p:txBody>
      </p:sp>
      <p:pic>
        <p:nvPicPr>
          <p:cNvPr id="181" name="Picture 8" descr="C:\Users\Zoran\Downloads\oralna hirurgija\slike\Submandibular_Space.JPG"/>
          <p:cNvPicPr/>
          <p:nvPr/>
        </p:nvPicPr>
        <p:blipFill>
          <a:blip r:embed="rId1"/>
          <a:srcRect l="2437" t="2633" r="2829" b="22301"/>
          <a:stretch/>
        </p:blipFill>
        <p:spPr>
          <a:xfrm>
            <a:off x="2687760" y="4233960"/>
            <a:ext cx="3133440" cy="2166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E6D8-8118-4563-B73F-BCB423AD53A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6" name="TextBox 6"/>
          <p:cNvSpPr/>
          <p:nvPr/>
        </p:nvSpPr>
        <p:spPr>
          <a:xfrm>
            <a:off x="469800" y="1395360"/>
            <a:ext cx="8180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ју екстраорално видљив субмандибуларни оток и тризмус. Кожа над отоком је црвена , топла и затегнута. Палпаторно оток је веома осетљив.</a:t>
            </a:r>
            <a:endParaRPr b="0" lang="en-US" sz="2000" spc="-1" strike="noStrike">
              <a:solidFill>
                <a:srgbClr val="000000"/>
              </a:solidFill>
              <a:latin typeface="Arial"/>
            </a:endParaRPr>
          </a:p>
        </p:txBody>
      </p:sp>
      <p:pic>
        <p:nvPicPr>
          <p:cNvPr id="187" name="Picture 7" descr="C:\Users\Zoran\Downloads\oralna hirurgija\slike\download (16).jpg"/>
          <p:cNvPicPr/>
          <p:nvPr/>
        </p:nvPicPr>
        <p:blipFill>
          <a:blip r:embed="rId1"/>
          <a:stretch/>
        </p:blipFill>
        <p:spPr>
          <a:xfrm>
            <a:off x="2781360" y="2413080"/>
            <a:ext cx="3408480" cy="2268360"/>
          </a:xfrm>
          <a:prstGeom prst="rect">
            <a:avLst/>
          </a:prstGeom>
          <a:ln w="0">
            <a:noFill/>
          </a:ln>
        </p:spPr>
      </p:pic>
      <p:sp>
        <p:nvSpPr>
          <p:cNvPr id="188" name="TextBox 9"/>
          <p:cNvSpPr/>
          <p:nvPr/>
        </p:nvSpPr>
        <p:spPr>
          <a:xfrm>
            <a:off x="276120" y="4824360"/>
            <a:ext cx="880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подразумева што ранију екстракцију узрочника, инцизију апсцеса и опште мере лечења. Правац инцизије прати доњу ивицу мандибуле на растојању од 1ц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о дијагностички искључити инфекцију пљувачне жлезде.</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BF1D-6436-481D-8BA3-183CF5B277B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3" name="TextBox 6"/>
          <p:cNvSpPr/>
          <p:nvPr/>
        </p:nvSpPr>
        <p:spPr>
          <a:xfrm>
            <a:off x="480960" y="1746360"/>
            <a:ext cx="8169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ЕНТ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ештен је између унутрашње стране симфизног дела мандибуле напред и хиоидне кости, позади. Горњу границу представља милохиоидни мишић, док је на доле ограничен површном фасцијом врата, платизмом и кож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држај простора је дигастрични мишић и субментални лимфни чворов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доминантан и карактеристичан симптом инфекције овог простора. Локализован је испод доње ивице браде, преко које не прелази, тако да болесник изгледа као да има дуплу бра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о нема знакова инфекције.</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4B6F-B7B0-49A4-A86C-0BD945A34BD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31920" y="182160"/>
            <a:ext cx="8812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8" name="TextBox 6"/>
          <p:cNvSpPr/>
          <p:nvPr/>
        </p:nvSpPr>
        <p:spPr>
          <a:xfrm>
            <a:off x="289080" y="1757520"/>
            <a:ext cx="8313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БРАЗНИ ИЛИ БУК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арни, површински простор лица. Налази се између образног мишића и његове фасције, који заједно чине његов унутрашњи зи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шни зид овог простора гради кожа образ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ња граница одговара поткожним мишићима (</a:t>
            </a:r>
            <a:r>
              <a:rPr b="0" lang="en-US" sz="2000" spc="-1" strike="noStrike">
                <a:solidFill>
                  <a:srgbClr val="000000"/>
                </a:solidFill>
                <a:latin typeface="Palatino Linotype"/>
              </a:rPr>
              <a:t> </a:t>
            </a:r>
            <a:r>
              <a:rPr b="0" i="1" lang="en-US" sz="2000" spc="-1" strike="noStrike">
                <a:solidFill>
                  <a:srgbClr val="000000"/>
                </a:solidFill>
                <a:latin typeface="Palatino Linotype"/>
              </a:rPr>
              <a:t>m. zygomaticus major et m. depresor anguli oris </a:t>
            </a:r>
            <a:r>
              <a:rPr b="0" lang="en-US" sz="2000" spc="-1" strike="noStrike">
                <a:solidFill>
                  <a:srgbClr val="000000"/>
                </a:solidFill>
                <a:latin typeface="Palatino Linotype"/>
              </a:rPr>
              <a:t>) </a:t>
            </a:r>
            <a:r>
              <a:rPr b="0" lang="sr-CS" sz="2000" spc="-1" strike="noStrike">
                <a:solidFill>
                  <a:srgbClr val="000000"/>
                </a:solidFill>
                <a:latin typeface="Palatino Linotype"/>
              </a:rPr>
              <a:t>који се једним крајем припајају у области комисуре ус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дња граница одговара припоју образног мишића на </a:t>
            </a:r>
            <a:r>
              <a:rPr b="0" i="1" lang="en-US" sz="2000" spc="-1" strike="noStrike">
                <a:solidFill>
                  <a:srgbClr val="000000"/>
                </a:solidFill>
                <a:latin typeface="Palatino Linotype"/>
              </a:rPr>
              <a:t>raphe pterygomandibulari</a:t>
            </a:r>
            <a:r>
              <a:rPr b="0" lang="en-US" sz="2000" spc="-1" strike="noStrike">
                <a:solidFill>
                  <a:srgbClr val="000000"/>
                </a:solidFill>
                <a:latin typeface="Palatino Linotype"/>
              </a:rPr>
              <a:t>s.</a:t>
            </a:r>
            <a:r>
              <a:rPr b="0" lang="sr-CS" sz="2000" spc="-1" strike="noStrike">
                <a:solidFill>
                  <a:srgbClr val="000000"/>
                </a:solidFill>
                <a:latin typeface="Palatino Linotype"/>
              </a:rPr>
              <a:t> Горња граница одговара зигоматичном луку, а доња граница доњој ивици тела мандибуле.</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8D53-E957-4910-8156-42A9032C3EF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pic>
        <p:nvPicPr>
          <p:cNvPr id="203" name="Picture 10" descr="C:\Users\Zoran\Downloads\oralna hirurgija\slike\download (19).jpg"/>
          <p:cNvPicPr/>
          <p:nvPr/>
        </p:nvPicPr>
        <p:blipFill>
          <a:blip r:embed="rId1"/>
          <a:srcRect l="2168" t="2206" r="53258" b="5618"/>
          <a:stretch/>
        </p:blipFill>
        <p:spPr>
          <a:xfrm>
            <a:off x="7122960" y="1324080"/>
            <a:ext cx="1868760" cy="2627280"/>
          </a:xfrm>
          <a:prstGeom prst="rect">
            <a:avLst/>
          </a:prstGeom>
          <a:ln w="0">
            <a:noFill/>
          </a:ln>
        </p:spPr>
      </p:pic>
      <p:sp>
        <p:nvSpPr>
          <p:cNvPr id="204" name="TextBox 10"/>
          <p:cNvSpPr/>
          <p:nvPr/>
        </p:nvSpPr>
        <p:spPr>
          <a:xfrm>
            <a:off x="433440" y="1816200"/>
            <a:ext cx="6905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укални простор садржи: масно јастуче, изводни кана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ротидне пљувачне жлезде, артерија и вена лица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разне гране фацијалног жив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 велики оток образа. Оток захвата средњу трећину лица од комисуре усана до задње ивице виличне гране. Нагоре оток се простире до доње ивице зигоматичног лука, не прелазећи га, а на доле до доње ивице мандибуле.</a:t>
            </a:r>
            <a:endParaRPr b="0" lang="en-US" sz="2000" spc="-1" strike="noStrike">
              <a:solidFill>
                <a:srgbClr val="000000"/>
              </a:solidFill>
              <a:latin typeface="Arial"/>
            </a:endParaRPr>
          </a:p>
        </p:txBody>
      </p:sp>
      <p:sp>
        <p:nvSpPr>
          <p:cNvPr id="205" name="TextBox 12"/>
          <p:cNvSpPr/>
          <p:nvPr/>
        </p:nvSpPr>
        <p:spPr>
          <a:xfrm>
            <a:off x="412920" y="4788000"/>
            <a:ext cx="8086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ко почетне гране фацијалне вене, вене образа су у вези са офталмичким венама и кавернозним синусом, што представља могућ пут ширења инфекције у кавернозни синус и мождане омотаче.</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0" y="6424560"/>
            <a:ext cx="394812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CC88-407B-4E4B-8783-648AB4019C4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0" name="TextBox 8"/>
          <p:cNvSpPr/>
          <p:nvPr/>
        </p:nvSpPr>
        <p:spPr>
          <a:xfrm>
            <a:off x="457200" y="1468440"/>
            <a:ext cx="8169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МАСЕТЕРИЧ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у пределу између виличне гране доње вилице и меких делова који покривају њену спољашњу страну.</a:t>
            </a:r>
            <a:endParaRPr b="0" lang="en-US" sz="2000" spc="-1" strike="noStrike">
              <a:solidFill>
                <a:srgbClr val="000000"/>
              </a:solidFill>
              <a:latin typeface="Arial"/>
            </a:endParaRPr>
          </a:p>
        </p:txBody>
      </p:sp>
      <p:pic>
        <p:nvPicPr>
          <p:cNvPr id="211" name="Picture 9" descr="C:\Users\Zoran\Downloads\oralna hirurgija\slike\imagescvfff.jpg"/>
          <p:cNvPicPr/>
          <p:nvPr/>
        </p:nvPicPr>
        <p:blipFill>
          <a:blip r:embed="rId1"/>
          <a:srcRect l="3269" t="1875" r="4535" b="17921"/>
          <a:stretch/>
        </p:blipFill>
        <p:spPr>
          <a:xfrm>
            <a:off x="3021120" y="3106800"/>
            <a:ext cx="2846160" cy="3119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0B80-5B98-4015-8F87-59F84994621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6" name="TextBox 10"/>
          <p:cNvSpPr/>
          <p:nvPr/>
        </p:nvSpPr>
        <p:spPr>
          <a:xfrm>
            <a:off x="457200" y="1407960"/>
            <a:ext cx="8158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к инфекције је брз, са најтежим стањем од трећег до седмог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у овог простора карактерише пре свега јак тризмус, који у фази развијеног апсцеса потпуно онемогућава отварање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може да буде локализован споља, унутра или обострано  у пределу угла гране доње ви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лпаторно оток је веома болан. За инцизију и дренажу овог простора могућа су оба приступа: споља и унутра.</a:t>
            </a:r>
            <a:endParaRPr b="0" lang="en-US" sz="2000" spc="-1" strike="noStrike">
              <a:solidFill>
                <a:srgbClr val="000000"/>
              </a:solidFill>
              <a:latin typeface="Arial"/>
            </a:endParaRPr>
          </a:p>
        </p:txBody>
      </p:sp>
      <p:pic>
        <p:nvPicPr>
          <p:cNvPr id="217" name="Picture 9" descr="C:\Users\Zoran\Downloads\oralna hirurgija\slike\download (18).jpg"/>
          <p:cNvPicPr/>
          <p:nvPr/>
        </p:nvPicPr>
        <p:blipFill>
          <a:blip r:embed="rId1"/>
          <a:srcRect l="0" t="19210" r="1646" b="11901"/>
          <a:stretch/>
        </p:blipFill>
        <p:spPr>
          <a:xfrm>
            <a:off x="3325680" y="4565520"/>
            <a:ext cx="2216160" cy="1797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3328-8246-41E9-80E3-C3405C0A161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2" name="TextBox 6"/>
          <p:cNvSpPr/>
          <p:nvPr/>
        </p:nvSpPr>
        <p:spPr>
          <a:xfrm>
            <a:off x="457200" y="1684440"/>
            <a:ext cx="825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ЧЊАЧКА ЈАМА </a:t>
            </a:r>
            <a:r>
              <a:rPr b="1" i="1" lang="sr-CS" sz="2000" spc="-1" strike="noStrike">
                <a:solidFill>
                  <a:srgbClr val="000000"/>
                </a:solidFill>
                <a:latin typeface="Palatino Linotype"/>
              </a:rPr>
              <a:t>( </a:t>
            </a:r>
            <a:r>
              <a:rPr b="1" i="1" lang="en-US" sz="2000" spc="-1" strike="noStrike">
                <a:solidFill>
                  <a:srgbClr val="000000"/>
                </a:solidFill>
                <a:latin typeface="Palatino Linotype"/>
              </a:rPr>
              <a:t>fossa canina</a:t>
            </a:r>
            <a:r>
              <a:rPr b="1" lang="en-US" sz="2000" spc="-1" strike="noStrike">
                <a:solidFill>
                  <a:srgbClr val="000000"/>
                </a:solidFill>
                <a:latin typeface="Palatino Linotyp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парни, површни простор лица који се налази на предњој страни тела максиле у пределу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изградњи овог простора учествује мишић </a:t>
            </a:r>
            <a:r>
              <a:rPr b="0" i="1" lang="en-US" sz="2000" spc="-1" strike="noStrike">
                <a:solidFill>
                  <a:srgbClr val="000000"/>
                </a:solidFill>
                <a:latin typeface="Palatino Linotype"/>
              </a:rPr>
              <a:t>m. levator labii oris superior</a:t>
            </a:r>
            <a:r>
              <a:rPr b="0" i="1" lang="sr-CS" sz="2000" spc="-1" strike="noStrike">
                <a:solidFill>
                  <a:srgbClr val="000000"/>
                </a:solidFill>
                <a:latin typeface="Palatino Linotype"/>
              </a:rPr>
              <a:t>  </a:t>
            </a:r>
            <a:r>
              <a:rPr b="0" lang="sr-CS" sz="2000" spc="-1" strike="noStrike">
                <a:solidFill>
                  <a:srgbClr val="000000"/>
                </a:solidFill>
                <a:latin typeface="Palatino Linotype"/>
              </a:rPr>
              <a:t>који се припаја високо у очњачкој ј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endParaRPr b="0" lang="en-US" sz="2000" spc="-1" strike="noStrike">
              <a:solidFill>
                <a:srgbClr val="000000"/>
              </a:solidFill>
              <a:latin typeface="Arial"/>
            </a:endParaRPr>
          </a:p>
        </p:txBody>
      </p:sp>
      <p:pic>
        <p:nvPicPr>
          <p:cNvPr id="223" name="Picture 7" descr="C:\Users\Zoran\Downloads\oralna hirurgija\slike\images78.jpg"/>
          <p:cNvPicPr/>
          <p:nvPr/>
        </p:nvPicPr>
        <p:blipFill>
          <a:blip r:embed="rId1"/>
          <a:stretch/>
        </p:blipFill>
        <p:spPr>
          <a:xfrm>
            <a:off x="6102360" y="4125960"/>
            <a:ext cx="2671920" cy="1735200"/>
          </a:xfrm>
          <a:prstGeom prst="rect">
            <a:avLst/>
          </a:prstGeom>
          <a:ln w="0">
            <a:noFill/>
          </a:ln>
        </p:spPr>
      </p:pic>
      <p:sp>
        <p:nvSpPr>
          <p:cNvPr id="224" name="TextBox 8"/>
          <p:cNvSpPr/>
          <p:nvPr/>
        </p:nvSpPr>
        <p:spPr>
          <a:xfrm>
            <a:off x="493560" y="4078440"/>
            <a:ext cx="5594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оток средње трећине лица, који се шири навише и достиже доњи очни капак. Кожа захваћеног дела лица има све карактеристике локалне инфл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остаје назолабијална бразд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B61C-DC94-4A9F-B7E9-81E01C0504C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9" name="TextBox 6"/>
          <p:cNvSpPr/>
          <p:nvPr/>
        </p:nvSpPr>
        <p:spPr>
          <a:xfrm>
            <a:off x="457200" y="1781280"/>
            <a:ext cx="8253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ПТЕРИГО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убоки простор ли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лика је хоризонтално поставље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остране приз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ростору се нала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њи алвеоларни нерв, језични нерв и до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лвеоларна артерија и в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чан знак инфекције ово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стора је одсуство отока, али је тризмус јако израже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жа се оток на бочном зиду ждрела који помера увулу ка здравој страни. Изражена је болна осетљивост предње ивице рамуса на палпацију.</a:t>
            </a:r>
            <a:endParaRPr b="0" lang="en-US" sz="2000" spc="-1" strike="noStrike">
              <a:solidFill>
                <a:srgbClr val="000000"/>
              </a:solidFill>
              <a:latin typeface="Arial"/>
            </a:endParaRPr>
          </a:p>
        </p:txBody>
      </p:sp>
      <p:pic>
        <p:nvPicPr>
          <p:cNvPr id="230" name="Picture 7" descr="C:\Users\Zoran\Downloads\oralna hirurgija\slike\imagescvfff.jpg"/>
          <p:cNvPicPr/>
          <p:nvPr/>
        </p:nvPicPr>
        <p:blipFill>
          <a:blip r:embed="rId1"/>
          <a:srcRect l="2627" t="2385" r="5159" b="17921"/>
          <a:stretch/>
        </p:blipFill>
        <p:spPr>
          <a:xfrm>
            <a:off x="5948280" y="1916280"/>
            <a:ext cx="2678040" cy="291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7" name="Date Placeholder 3"/>
          <p:cNvSpPr/>
          <p:nvPr/>
        </p:nvSpPr>
        <p:spPr>
          <a:xfrm>
            <a:off x="0" y="6424560"/>
            <a:ext cx="379584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6439-82F2-4545-B35A-7E2C92C4CD5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57200" y="1889280"/>
            <a:ext cx="8265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е представља комплекс промена у ткиву и систему његових крвних судова изазвано неким агенс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 овај тип инфекције карактеристична је ексудативна форма запаљења, која се карактерише поремећајем циркул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a:t>
            </a:r>
            <a:r>
              <a:rPr b="1" lang="sr-CS" sz="2000" spc="-1" strike="noStrike">
                <a:solidFill>
                  <a:srgbClr val="000000"/>
                </a:solidFill>
                <a:latin typeface="Palatino Linotype"/>
              </a:rPr>
              <a:t>трансудација</a:t>
            </a:r>
            <a:r>
              <a:rPr b="0" lang="sr-CS" sz="2000" spc="-1" strike="noStrike">
                <a:solidFill>
                  <a:srgbClr val="000000"/>
                </a:solidFill>
                <a:latin typeface="Palatino Linotype"/>
              </a:rPr>
              <a:t> – изливање течности и уобличених елемената из крвног суда), оштећење ткива (</a:t>
            </a:r>
            <a:r>
              <a:rPr b="1" lang="sr-CS" sz="2000" spc="-1" strike="noStrike">
                <a:solidFill>
                  <a:srgbClr val="000000"/>
                </a:solidFill>
                <a:latin typeface="Palatino Linotype"/>
              </a:rPr>
              <a:t>алтерација</a:t>
            </a:r>
            <a:r>
              <a:rPr b="0" lang="sr-CS" sz="2000" spc="-1" strike="noStrike">
                <a:solidFill>
                  <a:srgbClr val="000000"/>
                </a:solidFill>
                <a:latin typeface="Palatino Linotype"/>
              </a:rPr>
              <a:t> – дегенерација и некроза ткива ) и </a:t>
            </a:r>
            <a:r>
              <a:rPr b="1" lang="sr-CS" sz="2000" spc="-1" strike="noStrike">
                <a:solidFill>
                  <a:srgbClr val="000000"/>
                </a:solidFill>
                <a:latin typeface="Palatino Linotype"/>
              </a:rPr>
              <a:t>пролиферација</a:t>
            </a:r>
            <a:r>
              <a:rPr b="0" lang="sr-CS" sz="2000" spc="-1" strike="noStrike">
                <a:solidFill>
                  <a:srgbClr val="000000"/>
                </a:solidFill>
                <a:latin typeface="Palatino Linotype"/>
              </a:rPr>
              <a:t> – умножавање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770E-158C-4FED-A017-820819F23F3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35" name="TextBox 7"/>
          <p:cNvSpPr/>
          <p:nvPr/>
        </p:nvSpPr>
        <p:spPr>
          <a:xfrm>
            <a:off x="457200" y="1660680"/>
            <a:ext cx="832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тежи облик одонтогених инфекција представљ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Флегмона пода уста – </a:t>
            </a:r>
            <a:r>
              <a:rPr b="1" lang="en-US" sz="2000" spc="-1" strike="noStrike">
                <a:solidFill>
                  <a:srgbClr val="000000"/>
                </a:solidFill>
                <a:latin typeface="Palatino Linotype"/>
              </a:rPr>
              <a:t>Angina Ludowi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7" descr="C:\Users\Zoran\Downloads\oralna hirurgija\slike\B11_07_334beb59cf.jpg"/>
          <p:cNvPicPr/>
          <p:nvPr/>
        </p:nvPicPr>
        <p:blipFill>
          <a:blip r:embed="rId1"/>
          <a:srcRect l="3104" t="12808" r="0" b="0"/>
          <a:stretch/>
        </p:blipFill>
        <p:spPr>
          <a:xfrm>
            <a:off x="1335240" y="2514600"/>
            <a:ext cx="6426000" cy="378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4B4C-F0C8-43C2-A8EF-FA5ED4CD32F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41" name="TextBox 6"/>
          <p:cNvSpPr/>
          <p:nvPr/>
        </p:nvSpPr>
        <p:spPr>
          <a:xfrm>
            <a:off x="493560" y="1787400"/>
            <a:ext cx="8253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овог стања пре свега подразумева </a:t>
            </a:r>
            <a:r>
              <a:rPr b="0" lang="sr-CS" sz="2000" spc="-1" strike="noStrike" u="sng">
                <a:solidFill>
                  <a:srgbClr val="000000"/>
                </a:solidFill>
                <a:uFillTx/>
                <a:latin typeface="Palatino Linotype"/>
              </a:rPr>
              <a:t>хоспитализацију пацијент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нтибиотску терапију 3.200000-4.000000 И</a:t>
            </a:r>
            <a:r>
              <a:rPr b="0" lang="en-US" sz="2000" spc="-1" strike="noStrike">
                <a:solidFill>
                  <a:srgbClr val="000000"/>
                </a:solidFill>
                <a:latin typeface="Palatino Linotype"/>
              </a:rPr>
              <a:t>.</a:t>
            </a:r>
            <a:r>
              <a:rPr b="0" lang="sr-CS" sz="2000" spc="-1" strike="noStrike">
                <a:solidFill>
                  <a:srgbClr val="000000"/>
                </a:solidFill>
                <a:latin typeface="Palatino Linotype"/>
              </a:rPr>
              <a:t>Ј </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ва пута у току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пституциону терапију (Хартманов раствор, Рингеров раствор, раствор глуко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подразумевају екстраоралне ицизије у облику слова </a:t>
            </a:r>
            <a:r>
              <a:rPr b="0" lang="en-US" sz="2000" spc="-1" strike="noStrike">
                <a:solidFill>
                  <a:srgbClr val="000000"/>
                </a:solidFill>
                <a:latin typeface="Palatino Linotype"/>
              </a:rPr>
              <a:t>Y</a:t>
            </a:r>
            <a:r>
              <a:rPr b="0" lang="sr-CS" sz="2000" spc="-1" strike="noStrike">
                <a:solidFill>
                  <a:srgbClr val="000000"/>
                </a:solidFill>
                <a:latin typeface="Palatino Linotype"/>
              </a:rPr>
              <a:t>. Може се учинити и више мањих инциз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творе се стављају гумени дренови ради дрена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о је узрок инфекције зуб треба га што пре извади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240F-8166-4C37-B512-510A29A18D4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46" name="TextBox 8"/>
          <p:cNvSpPr/>
          <p:nvPr/>
        </p:nvSpPr>
        <p:spPr>
          <a:xfrm>
            <a:off x="438120" y="1616040"/>
            <a:ext cx="8242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7"/>
          <p:cNvSpPr/>
          <p:nvPr/>
        </p:nvSpPr>
        <p:spPr>
          <a:xfrm>
            <a:off x="457200" y="1708200"/>
            <a:ext cx="82296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диференцијалној дијагнози треба разграничит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а друге етиологије: лимфаденитис, посттрауматску инфекцију, фоликулитис, инфламирани атером, неодонтогено запаљење синуса, сијалоаденитис, сијалолитијаза зати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деме, емфизем, хематом, развојне цисте врата, ретенционе цисте пљувачних жлезда, бенигни и малигни тумори ових регија. </a:t>
            </a:r>
            <a:endParaRPr b="0" lang="en-US" sz="2000" spc="-1" strike="noStrike">
              <a:solidFill>
                <a:srgbClr val="000000"/>
              </a:solidFill>
              <a:latin typeface="Arial"/>
            </a:endParaRPr>
          </a:p>
        </p:txBody>
      </p:sp>
      <p:pic>
        <p:nvPicPr>
          <p:cNvPr id="248" name="Picture 8" descr="C:\Users\Zoran\Pictures\imagesCAIEC2EF.jpg"/>
          <p:cNvPicPr/>
          <p:nvPr/>
        </p:nvPicPr>
        <p:blipFill>
          <a:blip r:embed="rId1"/>
          <a:stretch/>
        </p:blipFill>
        <p:spPr>
          <a:xfrm>
            <a:off x="3182760" y="3751200"/>
            <a:ext cx="2590920" cy="2556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4FB7-1D9D-44E1-A94F-2E68238A11D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25160" y="122040"/>
            <a:ext cx="8466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3" name="TextBox 6"/>
          <p:cNvSpPr/>
          <p:nvPr/>
        </p:nvSpPr>
        <p:spPr>
          <a:xfrm>
            <a:off x="420840" y="1671480"/>
            <a:ext cx="8289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ЗАПАЉЕЊА ДРУГЕ ЕТИОЛОГ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ју све локалне и опште знаке карактеристичне з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ваквим случајевима основно је утврдити да ли постоји зуб узроч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ре лечења су истоветне и код инфекција друге етиологије, осим што нема потребе вадити или лечити зу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u="sng">
                <a:solidFill>
                  <a:srgbClr val="000000"/>
                </a:solidFill>
                <a:uFillTx/>
                <a:latin typeface="Palatino Linotype"/>
              </a:rPr>
              <a:t>Лимфаден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и као примарно обољење, када диференцијално-дијагностички представља известан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E021-80A4-4117-BB6D-E4D517E70EB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8" name="TextBox 7"/>
          <p:cNvSpPr/>
          <p:nvPr/>
        </p:nvSpPr>
        <p:spPr>
          <a:xfrm>
            <a:off x="488880" y="1728720"/>
            <a:ext cx="821700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7"/>
          <p:cNvSpPr/>
          <p:nvPr/>
        </p:nvSpPr>
        <p:spPr>
          <a:xfrm>
            <a:off x="469800" y="1647720"/>
            <a:ext cx="8145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ДЕ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рвенствено последица трауме или хируршког захвата, мада могу бити узроковани и алергијом или неким општим обољењ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ледица су поремећаја лимфне дренаже или трансудације течности и плазме из крвних суд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остоји мекан оток, а боја коже је непромењ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етман подразумева примену хладних облога, а пролази и спонтано после 3-5 дана.</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7322-320C-4C30-8611-CAB897354CD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64" name="TextBox 6"/>
          <p:cNvSpPr/>
          <p:nvPr/>
        </p:nvSpPr>
        <p:spPr>
          <a:xfrm>
            <a:off x="480960" y="1781280"/>
            <a:ext cx="813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ЕМАТ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5" name="Picture 7" descr="C:\Users\Zoran\Downloads\oralna hirurgija\slike\imagesvcccvcvc.jpg"/>
          <p:cNvPicPr/>
          <p:nvPr/>
        </p:nvPicPr>
        <p:blipFill>
          <a:blip r:embed="rId1"/>
          <a:stretch/>
        </p:blipFill>
        <p:spPr>
          <a:xfrm>
            <a:off x="2598840" y="2495520"/>
            <a:ext cx="4109760" cy="3168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CF66-B440-427D-9E5C-C3E61019E5D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25160" y="122040"/>
            <a:ext cx="851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0" name="TextBox 6"/>
          <p:cNvSpPr/>
          <p:nvPr/>
        </p:nvSpPr>
        <p:spPr>
          <a:xfrm>
            <a:off x="493560" y="161280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о продором ваздуха у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дух се може утиснути приликом фрактуре предњег зида максиларног синуса, затим јатрогено ако се канал корена зуба при ендодонтском третману испира под притиском раствором водоник-перокс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настати и услед рада машином или употребе пуст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је веома брзо и може изгледати драматич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д прстима се осећа крепитација ваздушних мехурића у ткив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ије потребно предузимати било какву терапију јер се оток повлачи спонтано након неколико дана.</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8DD1-8C09-4614-8631-970D433210E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5" name="TextBox 6"/>
          <p:cNvSpPr/>
          <p:nvPr/>
        </p:nvSpPr>
        <p:spPr>
          <a:xfrm>
            <a:off x="458640" y="1744560"/>
            <a:ext cx="8182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ТУМО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спирациона биопсија нема течности после аспирације</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лтразвучни преглед</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ТГ</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МР</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умор марке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04C3-F577-44E4-8131-082CED0D652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0" name="TextBox 5"/>
          <p:cNvSpPr/>
          <p:nvPr/>
        </p:nvSpPr>
        <p:spPr>
          <a:xfrm>
            <a:off x="457200" y="1744560"/>
            <a:ext cx="815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може бити : конзервативно</a:t>
            </a:r>
            <a:r>
              <a:rPr b="0" lang="en-US" sz="2000" spc="-1" strike="noStrike">
                <a:solidFill>
                  <a:srgbClr val="000000"/>
                </a:solidFill>
                <a:latin typeface="Palatino Linotype"/>
              </a:rPr>
              <a:t> </a:t>
            </a:r>
            <a:r>
              <a:rPr b="0" lang="sr-CS" sz="2000" spc="-1" strike="noStrike">
                <a:solidFill>
                  <a:srgbClr val="000000"/>
                </a:solidFill>
                <a:latin typeface="Palatino Linotype"/>
              </a:rPr>
              <a:t>(медикаментозно),</a:t>
            </a:r>
            <a:r>
              <a:rPr b="0" lang="en-US" sz="2000" spc="-1" strike="noStrike">
                <a:solidFill>
                  <a:srgbClr val="000000"/>
                </a:solidFill>
                <a:latin typeface="Palatino Linotype"/>
              </a:rPr>
              <a:t> </a:t>
            </a:r>
            <a:r>
              <a:rPr b="0" lang="sr-CS" sz="2000" spc="-1" strike="noStrike">
                <a:solidFill>
                  <a:srgbClr val="000000"/>
                </a:solidFill>
                <a:latin typeface="Palatino Linotype"/>
              </a:rPr>
              <a:t>хируршки и комбинова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Конзервативн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 за циљ сузбијање општих и локалних симптома инфекције и њену санацију уз евентуално очува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сновна и најважнија терапијска мера је примена антибиотика, затим апликација аналгетика, антипиретика и супститационе терапије (надокнада течности, електролита, витамина као и храњивих материја).</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DA77-49B9-48ED-BEB2-E765AC36DD4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5" name="TextBox 6"/>
          <p:cNvSpPr/>
          <p:nvPr/>
        </p:nvSpPr>
        <p:spPr>
          <a:xfrm>
            <a:off x="444600" y="1731960"/>
            <a:ext cx="821844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инфекција антибиотицима треба се придржавати неких основних принципа њихове приме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збор лека се врши на основу микробиолошких налаза и антибиограм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лек се примењује у довољно високој дози и најефикаснијим путем уноше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о престанку клиничких симптома лечење се наставља два до три дана, чиме се спречава појава рецидива</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2" name="Date Placeholder 3"/>
          <p:cNvSpPr/>
          <p:nvPr/>
        </p:nvSpPr>
        <p:spPr>
          <a:xfrm>
            <a:off x="0" y="6421320"/>
            <a:ext cx="390672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7973-C406-448F-9300-6F6C26CF886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7"/>
          <p:cNvSpPr/>
          <p:nvPr/>
        </p:nvSpPr>
        <p:spPr>
          <a:xfrm>
            <a:off x="399960" y="1352520"/>
            <a:ext cx="8145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 клиничкој слици и току, дентогене инфекције могу бити </a:t>
            </a:r>
            <a:r>
              <a:rPr b="1" lang="sr-CS" sz="2000" spc="-1" strike="noStrike">
                <a:solidFill>
                  <a:srgbClr val="ff0000"/>
                </a:solidFill>
                <a:latin typeface="Palatino Linotype"/>
              </a:rPr>
              <a:t>акутне</a:t>
            </a:r>
            <a:r>
              <a:rPr b="0" lang="sr-CS" sz="2000" spc="-1" strike="noStrike">
                <a:solidFill>
                  <a:srgbClr val="000000"/>
                </a:solidFill>
                <a:latin typeface="Palatino Linotype"/>
              </a:rPr>
              <a:t> и </a:t>
            </a:r>
            <a:r>
              <a:rPr b="1" lang="sr-CS" sz="2000" spc="-1" strike="noStrike">
                <a:solidFill>
                  <a:srgbClr val="ff0000"/>
                </a:solidFill>
                <a:latin typeface="Palatino Linotype"/>
              </a:rPr>
              <a:t>хроничне</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ка акутних дентогених инфекција је да су, углавном, узроковане нормалном флором усне шупљ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Микроорганиз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ји су настањени на површини чврстих и меких ткива уста, када промене средину – доспеју у кост или мека ткива, постају патогени за нову среди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лору дентогених инфекција чини асоцијација анаеробних и аеробних микроорганизама, са доминантном улогом анаеробних врста. ( </a:t>
            </a:r>
            <a:r>
              <a:rPr b="0" i="1" lang="en-US" sz="2000" spc="-1" strike="noStrike">
                <a:solidFill>
                  <a:srgbClr val="ff0000"/>
                </a:solidFill>
                <a:latin typeface="Palatino Linotype"/>
              </a:rPr>
              <a:t>Bacterioides, Fusobacterium</a:t>
            </a:r>
            <a:r>
              <a:rPr b="0" lang="sr-CS" sz="2000" spc="-1" strike="noStrike">
                <a:solidFill>
                  <a:srgbClr val="ff0000"/>
                </a:solidFill>
                <a:latin typeface="Palatino Linotype"/>
              </a:rPr>
              <a:t> </a:t>
            </a:r>
            <a:r>
              <a:rPr b="0" lang="en-US" sz="2000" spc="-1" strike="noStrike">
                <a:solidFill>
                  <a:srgbClr val="ff0000"/>
                </a:solidFill>
                <a:latin typeface="Palatino Linotype"/>
              </a:rPr>
              <a:t>, </a:t>
            </a:r>
            <a:r>
              <a:rPr b="0" i="1" lang="en-US" sz="2000" spc="-1" strike="noStrike">
                <a:solidFill>
                  <a:srgbClr val="ff0000"/>
                </a:solidFill>
                <a:latin typeface="Palatino Linotype"/>
              </a:rPr>
              <a:t>Peptococcus et Peptostreptococcus</a:t>
            </a:r>
            <a:r>
              <a:rPr b="0" i="1" lang="en-US" sz="2000" spc="-1" strike="noStrike">
                <a:solidFill>
                  <a:srgbClr val="000000"/>
                </a:solidFill>
                <a:latin typeface="Palatino Linotype"/>
              </a:rPr>
              <a:t>). </a:t>
            </a:r>
            <a:r>
              <a:rPr b="0" lang="sr-CS" sz="2000" spc="-1" strike="noStrike">
                <a:solidFill>
                  <a:srgbClr val="000000"/>
                </a:solidFill>
                <a:latin typeface="Palatino Linotype"/>
              </a:rPr>
              <a:t>Најчешћи аероби су </a:t>
            </a:r>
            <a:r>
              <a:rPr b="1" lang="sr-CS" sz="2000" spc="-1" strike="noStrike">
                <a:solidFill>
                  <a:srgbClr val="ff0000"/>
                </a:solidFill>
                <a:latin typeface="Palatino Linotype"/>
              </a:rPr>
              <a:t>стафилококуси и стрептококуси</a:t>
            </a:r>
            <a:r>
              <a:rPr b="0" lang="sr-CS" sz="2000" spc="-1" strike="noStrike">
                <a:solidFill>
                  <a:srgbClr val="ff0000"/>
                </a:solidFill>
                <a:latin typeface="Palatino Linotyp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262D-1156-420E-B88C-6E075507146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0" name="TextBox 7"/>
          <p:cNvSpPr/>
          <p:nvPr/>
        </p:nvSpPr>
        <p:spPr>
          <a:xfrm>
            <a:off x="480960" y="1636560"/>
            <a:ext cx="81345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Хируршк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дентогених апсцеса су вађење зуба узрочника и инцизија са дренажом апс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Уколико се зуб не може сачувати, прва мера у лечењу инфекција је вађе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лагање вађења зуба се врши када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је веома брз ток инфекције, поготову флегмонозног карактер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едпоставка да ће екстракција бити веома тешк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могућност примене анесте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тризмус трећег степ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Date Placeholder 3"/>
          <p:cNvSpPr/>
          <p:nvPr/>
        </p:nvSpPr>
        <p:spPr>
          <a:xfrm>
            <a:off x="0" y="6389640"/>
            <a:ext cx="38656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2B9C-F0AC-46D5-BFA7-2A012552A88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5" name="TextBox 6"/>
          <p:cNvSpPr/>
          <p:nvPr/>
        </p:nvSpPr>
        <p:spPr>
          <a:xfrm>
            <a:off x="444600" y="1442880"/>
            <a:ext cx="8157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ЦИЗ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ресецање ткива изнад апсцеса с</a:t>
            </a:r>
            <a:r>
              <a:rPr b="0" lang="en-US" sz="2000" spc="-1" strike="noStrike">
                <a:solidFill>
                  <a:srgbClr val="000000"/>
                </a:solidFill>
                <a:latin typeface="Palatino Linotype"/>
              </a:rPr>
              <a:t> </a:t>
            </a:r>
            <a:r>
              <a:rPr b="0" lang="sr-CS" sz="2000" spc="-1" strike="noStrike">
                <a:solidFill>
                  <a:srgbClr val="000000"/>
                </a:solidFill>
                <a:latin typeface="Palatino Linotype"/>
              </a:rPr>
              <a:t>циљем да се успостави дренажа гнојне кол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 инцизије, ткиво увек треба анестезирати локално, применом инфилтрацио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дикација за инцизију увек постоји када оток флуктуира,  тако да се може извршити и истовремено са екстракцијом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е инцизије у форниксу се изводе паралелно са алвеоларним гребеном на месту најизраженије флуктуације (у доњој вилици) или на најнижем месту постојеће флуктуације (у горњој вилици). Изузетак у пределу доњих премолара.</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0" y="6424560"/>
            <a:ext cx="378288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92A0-53B9-4F33-BE2E-FAF2AA58ABA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pic>
        <p:nvPicPr>
          <p:cNvPr id="300" name="Picture 7" descr="C:\Users\Zoran\Downloads\oralna hirurgija\slike\rtrttrerr.jpg"/>
          <p:cNvPicPr/>
          <p:nvPr/>
        </p:nvPicPr>
        <p:blipFill>
          <a:blip r:embed="rId1"/>
          <a:stretch/>
        </p:blipFill>
        <p:spPr>
          <a:xfrm>
            <a:off x="2522520" y="1679400"/>
            <a:ext cx="4179960" cy="442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0CF1-B6F1-4710-9DF8-F1292405B2B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05" name="TextBox 7"/>
          <p:cNvSpPr/>
          <p:nvPr/>
        </p:nvSpPr>
        <p:spPr>
          <a:xfrm>
            <a:off x="480960" y="1623960"/>
            <a:ext cx="818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дентогених инфекција су углавном последица избегавања лечења, неадекватног лечења или касно почетог леч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ифузно запаљење кости које захвата периост, кортекс и спонгиоз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се јавити у акутној или хроничној форми, као гнојни или негнојни остеомијелити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24560"/>
            <a:ext cx="3824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1AA2-F56F-4E6B-B8E2-E84075780AD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0" name="TextBox 6"/>
          <p:cNvSpPr/>
          <p:nvPr/>
        </p:nvSpPr>
        <p:spPr>
          <a:xfrm>
            <a:off x="420840" y="1419120"/>
            <a:ext cx="8550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Акут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као последица неадекватне терапиј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 инфекција може доћи из апсцеса, после трауме или хематогеним путем. Узрочник инфекције су по правилу стафилоко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линичкој слици доминирају бол, оток и општи знаци инфекције, висока температура, дехидратација и малаксал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минантан симптом је клаћење и болна осетљивост зуба узрочника на најмањи доди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ављају се фистуле на слузокожи и кожи. На рендген снимку промене су незнатне, и то у каснијој фази и манифестују се благим замућењем структуре коштаних гредица.</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5EBA-0DEB-47AC-A633-CA6C043F122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5" name="TextBox 7"/>
          <p:cNvSpPr/>
          <p:nvPr/>
        </p:nvSpPr>
        <p:spPr>
          <a:xfrm>
            <a:off x="469800" y="1612800"/>
            <a:ext cx="8217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д остеомијелитиса доње вилице може да се јави утрнулост доње усне – </a:t>
            </a:r>
            <a:r>
              <a:rPr b="0" i="1" lang="en-US" sz="2000" spc="-1" strike="noStrike">
                <a:solidFill>
                  <a:srgbClr val="000000"/>
                </a:solidFill>
                <a:latin typeface="Palatino Linotype"/>
              </a:rPr>
              <a:t>Vincentov знак</a:t>
            </a:r>
            <a:r>
              <a:rPr b="0" lang="en-US" sz="2000" spc="-1" strike="noStrike">
                <a:solidFill>
                  <a:srgbClr val="000000"/>
                </a:solidFill>
                <a:latin typeface="Palatino Linotype"/>
              </a:rPr>
              <a:t>, </a:t>
            </a:r>
            <a:r>
              <a:rPr b="0" lang="sr-CS" sz="2000" spc="-1" strike="noStrike">
                <a:solidFill>
                  <a:srgbClr val="000000"/>
                </a:solidFill>
                <a:latin typeface="Palatino Linotype"/>
              </a:rPr>
              <a:t>услед притиска на доњи зубни нер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је увек праћена локалним лимфаденитисом субмандибуларних и вратних чвор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треба предузети интезивну хируршко-медикаментну терап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уб узрочник треба извадити што пре. При том, околне расклаћене зубе треба сачувати и имобилиса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4458-20E1-42B8-B63F-DCE3B3E3E6E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0" name="TextBox 6"/>
          <p:cNvSpPr/>
          <p:nvPr/>
        </p:nvSpPr>
        <p:spPr>
          <a:xfrm>
            <a:off x="457200" y="1468440"/>
            <a:ext cx="8182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Локални хронич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тиче са дискретним симптомима у виду благих болова и нелагодно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локалног остеомијелитиса након вађења зуба карактерише се успореним зарастањем ране, што је и најчешћи разлог доласка пацијен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екстракционе ране проминира ливидно гранулационо ткиво карфиоластог изгледа. По ивицама се таложи и на притисак цеди гнојни ексуд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ендгенски налаз је карактеристичан – на снимку се запажа секвестар, коштани фрагмент одвојен од остале кости зоном расветљења. Ивице секвестра су неправилне и назупчене.</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DEBB-22AA-4B64-80B7-4874DFADAE2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5" name="TextBox 7"/>
          <p:cNvSpPr/>
          <p:nvPr/>
        </p:nvSpPr>
        <p:spPr>
          <a:xfrm>
            <a:off x="493560" y="1708200"/>
            <a:ext cx="8096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е састоји у примени антибиотика и хируршких м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а терапија има предност, односно само уклањање секвестара (секвестротомија) и гранулационог ткива може довести до излечења.</a:t>
            </a:r>
            <a:endParaRPr b="0" lang="en-US" sz="2000" spc="-1" strike="noStrike">
              <a:solidFill>
                <a:srgbClr val="000000"/>
              </a:solidFill>
              <a:latin typeface="Arial"/>
            </a:endParaRPr>
          </a:p>
        </p:txBody>
      </p:sp>
      <p:pic>
        <p:nvPicPr>
          <p:cNvPr id="326" name="Picture 7" descr="C:\Users\Zoran\Downloads\oralna hirurgija\slike\bdj.2007.636-f2.jpg"/>
          <p:cNvPicPr/>
          <p:nvPr/>
        </p:nvPicPr>
        <p:blipFill>
          <a:blip r:embed="rId1"/>
          <a:stretch/>
        </p:blipFill>
        <p:spPr>
          <a:xfrm>
            <a:off x="2287440" y="3495600"/>
            <a:ext cx="4445280" cy="295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C0AA-5F67-41F4-B7D9-5F19E7B2A74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1" name="TextBox 6"/>
          <p:cNvSpPr/>
          <p:nvPr/>
        </p:nvSpPr>
        <p:spPr>
          <a:xfrm>
            <a:off x="433440" y="1442880"/>
            <a:ext cx="8109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ронични субкутани апсцес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јављају или као компликација акутних дентогених апсцеса, или су од почетка хроничног то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ормирају се у поткожном ткиву, често на карактеристичним локацијама тзв. предилекционим местима као што су спојеви мишића и фас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типичан налаз: оток љубичасте, тамноцрвене боје, кожа над отоком је смежурана, ретко када затегнута и сјајна, са израженим трофичним променама у виду дескв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ентрални део је често неосетљив јер су некрозом захваћени и нервни завршец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110B-FF17-427C-884F-E7BA2CFDA93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6" name="TextBox 6"/>
          <p:cNvSpPr/>
          <p:nvPr/>
        </p:nvSpPr>
        <p:spPr>
          <a:xfrm>
            <a:off x="457200" y="1720800"/>
            <a:ext cx="8169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упкутаних апсцеса је искључиво хирурш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а и дренажа са киретажом некротичног ткива, уз обавезан третман зуба узрочника, најчешће његову екстра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Најтежа компликација дентогених инфекција представља ширење ових инфекција у медијастинум и ендокранијум, које могу завршити летално због генерализоване сепсе</a:t>
            </a:r>
            <a:r>
              <a:rPr b="0" lang="en-US" sz="2000" spc="-1" strike="noStrike">
                <a:solidFill>
                  <a:srgbClr val="ff0000"/>
                </a:solidFill>
                <a:latin typeface="Palatino Linotype"/>
              </a:rPr>
              <a: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7"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6C88-3741-49E4-97DF-455D82DC955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0" name="TextBox 7"/>
          <p:cNvSpPr/>
          <p:nvPr/>
        </p:nvSpPr>
        <p:spPr>
          <a:xfrm>
            <a:off x="480960" y="1731960"/>
            <a:ext cx="8134560" cy="37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Локализа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ентогене инфекције могу бити локализов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апикално</a:t>
            </a:r>
            <a:r>
              <a:rPr b="0" lang="sr-CS" sz="2000" spc="-1" strike="noStrike">
                <a:solidFill>
                  <a:srgbClr val="000000"/>
                </a:solidFill>
                <a:latin typeface="Palatino Linotype"/>
              </a:rPr>
              <a:t> ( инфекцију изазивају авитални зуби са инфицираном или гангренозном пулп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  </a:t>
            </a:r>
            <a:r>
              <a:rPr b="1" lang="sr-CS" sz="2000" spc="-1" strike="noStrike">
                <a:solidFill>
                  <a:srgbClr val="ff0000"/>
                </a:solidFill>
                <a:latin typeface="Palatino Linotype"/>
              </a:rPr>
              <a:t>Пародонтал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се јавља око зуба са дубоким пародонталним џеповима, као пародонтални апцес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коронар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настаје у перикоронарном простору делимично изниклих зуба – перикоронити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9C4B-EE34-4AA0-8D4A-92BE70A43A9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5" name="TextBox 7"/>
          <p:cNvSpPr/>
          <p:nvPr/>
        </p:nvSpPr>
        <p:spPr>
          <a:xfrm>
            <a:off x="493560" y="1768320"/>
            <a:ext cx="8096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Ширењ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зуба узрочника инфекција се шири у околна ткива и удаљене преде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 ширење инфекције утичу бројни фактори, који су у вези с организмом домаћина, али и микроорганизм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ви фактор је </a:t>
            </a:r>
            <a:r>
              <a:rPr b="1" lang="sr-CS" sz="2000" spc="-1" strike="noStrike">
                <a:solidFill>
                  <a:srgbClr val="000000"/>
                </a:solidFill>
                <a:latin typeface="Palatino Linotype"/>
              </a:rPr>
              <a:t>одбрана организм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ђусобни однос микроорганизми – домаћин може да се поремети у току бројних обољења која изазивају  пад имунитета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вољни услови могу да се развију у ткиву и на локалном ниво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198D-991F-4A8F-BE69-CD17846B398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0" name="TextBox 6"/>
          <p:cNvSpPr/>
          <p:nvPr/>
        </p:nvSpPr>
        <p:spPr>
          <a:xfrm>
            <a:off x="457200" y="1731960"/>
            <a:ext cx="8193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руги фактор су </a:t>
            </a:r>
            <a:r>
              <a:rPr b="1" lang="sr-CS" sz="2000" spc="-1" strike="noStrike">
                <a:solidFill>
                  <a:srgbClr val="000000"/>
                </a:solidFill>
                <a:latin typeface="Palatino Linotype"/>
              </a:rPr>
              <a:t>микроорганизми</a:t>
            </a:r>
            <a:r>
              <a:rPr b="0" lang="sr-CS" sz="2000" spc="-1" strike="noStrike">
                <a:solidFill>
                  <a:srgbClr val="000000"/>
                </a:solidFill>
                <a:latin typeface="Palatino Linotype"/>
              </a:rPr>
              <a:t>, односно њихова бројност и врста, тј. вирул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жина клиничке слике често је повезана с налазом одређених врста микроорганизам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ежим формама дентогених инфекција често су присутне грам-негативне анаеробне врст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137F-29FC-422C-83C4-CFC14A300E8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95" name="TextBox 7"/>
          <p:cNvSpPr/>
          <p:nvPr/>
        </p:nvSpPr>
        <p:spPr>
          <a:xfrm>
            <a:off x="446040" y="1539720"/>
            <a:ext cx="815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тврти веома битан фактор ширења дентогених инфекција представљају локални </a:t>
            </a:r>
            <a:r>
              <a:rPr b="1" lang="sr-CS" sz="2000" spc="-1" strike="noStrike">
                <a:solidFill>
                  <a:srgbClr val="000000"/>
                </a:solidFill>
                <a:latin typeface="Palatino Linotype"/>
              </a:rPr>
              <a:t>анатомски фактори</a:t>
            </a:r>
            <a:r>
              <a:rPr b="0" lang="sr-CS" sz="2000" spc="-1" strike="noStrike">
                <a:solidFill>
                  <a:srgbClr val="000000"/>
                </a:solidFill>
                <a:latin typeface="Palatino Linotype"/>
              </a:rPr>
              <a:t> ( припоји мишића и фасција, крвни и лимфни судови, грађа и дебљина коштаних ламела, морфологија коренова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Palatino Linotype"/>
              </a:rPr>
              <a:t>M</a:t>
            </a:r>
            <a:r>
              <a:rPr b="0" i="1" lang="sr-CS" sz="2000" spc="-1" strike="noStrike">
                <a:solidFill>
                  <a:srgbClr val="000000"/>
                </a:solidFill>
                <a:latin typeface="Palatino Linotype"/>
              </a:rPr>
              <a:t>ишићни припоји </a:t>
            </a:r>
            <a:r>
              <a:rPr b="0" lang="sr-CS" sz="2000" spc="-1" strike="noStrike">
                <a:solidFill>
                  <a:srgbClr val="000000"/>
                </a:solidFill>
                <a:latin typeface="Palatino Linotype"/>
              </a:rPr>
              <a:t>су од посебног клиничког значаја будући да локализација инфекције може да зависи од места продора запаљенског ексудата у односу на њихову инсерцију.</a:t>
            </a:r>
            <a:endParaRPr b="0" lang="en-US" sz="2000" spc="-1" strike="noStrike">
              <a:solidFill>
                <a:srgbClr val="000000"/>
              </a:solidFill>
              <a:latin typeface="Arial"/>
            </a:endParaRPr>
          </a:p>
        </p:txBody>
      </p:sp>
      <p:pic>
        <p:nvPicPr>
          <p:cNvPr id="96" name="Picture 7" descr="C:\Users\Zoran\Downloads\oralna hirurgija\slike\imagesrtr.jpg"/>
          <p:cNvPicPr/>
          <p:nvPr/>
        </p:nvPicPr>
        <p:blipFill>
          <a:blip r:embed="rId1"/>
          <a:srcRect l="0" t="17344" r="18263" b="25032"/>
          <a:stretch/>
        </p:blipFill>
        <p:spPr>
          <a:xfrm>
            <a:off x="485640" y="4199040"/>
            <a:ext cx="2225880" cy="2160360"/>
          </a:xfrm>
          <a:prstGeom prst="rect">
            <a:avLst/>
          </a:prstGeom>
          <a:ln w="0">
            <a:noFill/>
          </a:ln>
        </p:spPr>
      </p:pic>
      <p:pic>
        <p:nvPicPr>
          <p:cNvPr id="97" name="Picture 8" descr="C:\Users\Zoran\Downloads\oralna hirurgija\slike\12223.jpg"/>
          <p:cNvPicPr/>
          <p:nvPr/>
        </p:nvPicPr>
        <p:blipFill>
          <a:blip r:embed="rId2"/>
          <a:stretch/>
        </p:blipFill>
        <p:spPr>
          <a:xfrm>
            <a:off x="2716200" y="4168800"/>
            <a:ext cx="2219400" cy="2057400"/>
          </a:xfrm>
          <a:prstGeom prst="rect">
            <a:avLst/>
          </a:prstGeom>
          <a:ln w="0">
            <a:noFill/>
          </a:ln>
        </p:spPr>
      </p:pic>
      <p:pic>
        <p:nvPicPr>
          <p:cNvPr id="98" name="Picture 9" descr="C:\Users\Zoran\Downloads\oralna hirurgija\slike\imagesvg.jpg"/>
          <p:cNvPicPr/>
          <p:nvPr/>
        </p:nvPicPr>
        <p:blipFill>
          <a:blip r:embed="rId3"/>
          <a:stretch/>
        </p:blipFill>
        <p:spPr>
          <a:xfrm>
            <a:off x="6894360" y="4119480"/>
            <a:ext cx="1971720" cy="2324160"/>
          </a:xfrm>
          <a:prstGeom prst="rect">
            <a:avLst/>
          </a:prstGeom>
          <a:ln w="0">
            <a:noFill/>
          </a:ln>
        </p:spPr>
      </p:pic>
      <p:pic>
        <p:nvPicPr>
          <p:cNvPr id="99" name="Picture 10" descr="C:\Users\Zoran\Downloads\oralna hirurgija\slike\imagesggg.jpg"/>
          <p:cNvPicPr/>
          <p:nvPr/>
        </p:nvPicPr>
        <p:blipFill>
          <a:blip r:embed="rId4"/>
          <a:stretch/>
        </p:blipFill>
        <p:spPr>
          <a:xfrm>
            <a:off x="4807080" y="4243320"/>
            <a:ext cx="2152440" cy="212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DBE9-8D02-459F-A9D2-5C4D5ECC94C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04" name="TextBox 6"/>
          <p:cNvSpPr/>
          <p:nvPr/>
        </p:nvSpPr>
        <p:spPr>
          <a:xfrm>
            <a:off x="469800" y="1828800"/>
            <a:ext cx="8132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Грађа кости </a:t>
            </a:r>
            <a:r>
              <a:rPr b="0" lang="sr-CS" sz="2000" spc="-1" strike="noStrike">
                <a:solidFill>
                  <a:srgbClr val="000000"/>
                </a:solidFill>
                <a:latin typeface="Palatino Linotype"/>
              </a:rPr>
              <a:t>, правац и густина трабекуларне кости као и дебљина компактне кости, представљају значајан фактор у ширењу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нојна колекција се, по правилу ,шири путем најмањег отпора кроз кост. То опредељује место на коме ће перфорирати кортикалну ламелу виличне кости.</a:t>
            </a:r>
            <a:endParaRPr b="0" lang="en-US" sz="2000" spc="-1" strike="noStrike">
              <a:solidFill>
                <a:srgbClr val="000000"/>
              </a:solidFill>
              <a:latin typeface="Arial"/>
            </a:endParaRPr>
          </a:p>
        </p:txBody>
      </p:sp>
      <p:pic>
        <p:nvPicPr>
          <p:cNvPr id="105" name="Picture 7" descr="C:\Users\Zoran\Downloads\oralna hirurgija\slike\download (17).jpg"/>
          <p:cNvPicPr/>
          <p:nvPr/>
        </p:nvPicPr>
        <p:blipFill>
          <a:blip r:embed="rId1"/>
          <a:srcRect l="0" t="8346" r="131" b="0"/>
          <a:stretch/>
        </p:blipFill>
        <p:spPr>
          <a:xfrm>
            <a:off x="3068640" y="4054320"/>
            <a:ext cx="3019320" cy="2310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Каја</dc:creator>
  <dc:description/>
  <dc:language>en-US</dc:language>
  <cp:lastModifiedBy>Korisnik</cp:lastModifiedBy>
  <dcterms:modified xsi:type="dcterms:W3CDTF">2019-09-09T16:02:32Z</dcterms:modified>
  <cp:revision>1338</cp:revision>
  <dc:subject/>
  <dc:title>NAZIV PREDAVANJA</dc:title>
</cp:coreProperties>
</file>